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704-F7BE-4568-B7E8-0FE33E94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DBF-DCBE-4BB7-A0E7-9D2EDA6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AE0-8BF0-4BD4-ACC6-50DA64CF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AEC-1E11-4A15-A9A6-6F02B9DF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D30-F0A2-458D-B456-D55B8EC5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297-D9CF-44EF-A251-4BDB2E9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240-B5C0-4130-8061-3581E316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80C-CF2C-4AF9-BA5A-79110F5B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002-0C99-4C21-90F9-8A9A6EC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5B3-3B53-475F-A8A0-C08DBDD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D5E-4941-4525-9FA9-0F5C7BE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607-4A7E-40BC-8D10-BD2330A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C8B-A609-4352-9F98-6CD5E4C2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TTING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The Constant Gard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alyse how the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esentation of a setting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lped to develop an important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6:30Z</dcterms:created>
  <dc:creator>egraham</dc:creator>
  <dc:description/>
  <dc:language>en-US</dc:language>
  <cp:lastModifiedBy>egraham</cp:lastModifiedBy>
  <dcterms:modified xsi:type="dcterms:W3CDTF">2009-08-24T07:32:17Z</dcterms:modified>
  <cp:revision>2</cp:revision>
  <dc:subject/>
  <dc:title>SETTING in The Constant Gardener</dc:title>
</cp:coreProperties>
</file>